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grifam" initials="u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<Relationship Id="rId29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07-03-29T09:07:08.790000000" idx="1">
    <p:pos x="5313" y="1964"/>
    <p:text>tab in text that runs two lines for clarity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B626-0D68-43AA-BCAD-57F2D4F35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750F-9A2C-4BA0-A8F7-29919F18E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CCE0-DA53-40F1-A153-F53D6F2C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D181-976A-4579-9B8D-AC2F1117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8CA-2374-43AD-83B3-7F7BFD6B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3009-1769-41F7-A082-833E962B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1C7-430B-48D7-9F49-023254D1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29A8-8708-41C6-80BB-A2B1594D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ABD2-6249-4574-BB43-B5CDD899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2FE5-5AD0-489C-ABDB-66E091A1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58B-585B-4DC9-AA0A-8829665B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C23-C8A2-4631-A8C3-A19D0782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A9F1-8DE3-440C-8676-60377996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B3A3-C1EC-4BCB-91C9-F9F44E65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4273-D765-41BF-A3D1-82648405A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4 Pastoral nomad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as increased in recent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s a form of intensive subsistence 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id not develop until after perman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settlements were bu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ynonymous with transhu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most common in dry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4 Pastoral nomad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as increased in recent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s a form of intensive subsistence 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id not develop until after perman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al settlements were bu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ynonymous with transhu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Is most common in dry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5 Plantations are most commonly foun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American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nd West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5 Plantations are most commonly foun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American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nd West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6 Compared to other grains, w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of less economic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s more uses for human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not be stored a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ows less well in humid continental cl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grown primarily for domestic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6 Compared to other grains, w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of less economic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Has more uses than solely human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not be stored a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ows less well in humid continental cl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grown primarily for domestic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7 Ranching has declined in the western United States primarily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fectious diseases have killed off he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rowing crops is a more efficient use of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federal government provides 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entives for ran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Vegetarianism has become so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 lack of water limits the number of anima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a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7 Ranching has declined in the western United States primarily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fectious diseases have killed off he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Growing crops is a more efficient us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federal government provides n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entives for ran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Vegetarianism has become so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 lack of water limits the number of anima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a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8 The most fundamental shared aspect of regions that practice Mediterranean agricultur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love of good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willingness to experiment with new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imilar climate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lose proximity to the 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peaking of Romance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8 The most fundamental shared aspect of regions that practice Mediterranean agricultur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love of good w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willingness to experiment with new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Similar climate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lose proximity to the 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speaking of Romance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1 All of the following areas were primary or secondary origins of vegetative planting, exce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esopotamia/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est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9 According to the von Thunen model, which of the following factor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ortant to a farmer when deciding which crops to g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istance to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ransportation cost per kil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Yield per a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rice per bush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utritional value of the c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9 According to the von Thunen model, which of the following factor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ortant to a farmer when deciding which crops to g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istance to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ransportation cost per kil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Yield per ac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rice per bush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Nutritional value of the cr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10 Which of the following area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fected by des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merican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entral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entral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western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10 Which of the following area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ffected by des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merican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entral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Central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western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0_14"/>
          <p:cNvPicPr/>
          <p:nvPr/>
        </p:nvPicPr>
        <p:blipFill>
          <a:blip r:embed="rId1"/>
          <a:stretch/>
        </p:blipFill>
        <p:spPr>
          <a:xfrm>
            <a:off x="304920" y="762120"/>
            <a:ext cx="8534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0_01"/>
          <p:cNvPicPr/>
          <p:nvPr/>
        </p:nvPicPr>
        <p:blipFill>
          <a:blip r:embed="rId1"/>
          <a:stretch/>
        </p:blipFill>
        <p:spPr>
          <a:xfrm>
            <a:off x="304920" y="609480"/>
            <a:ext cx="8610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1 All of the following areas were primary or secondary origins of vegetative planting, exce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Sou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esopotamia/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est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2 Subsistence agriculture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o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2 Subsistence agriculture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o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east A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0_03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3 Shifting cultivation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 the interior region of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ithin 20 degrees latitude of the equ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 more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humid continental cl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n close proximity to large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03 Shifting cultivation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 the interior region of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Within 20 degrees latitude of the equ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 more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 humid continental cl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n close proximity to large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Hartman, Unity</cp:lastModifiedBy>
  <dcterms:modified xsi:type="dcterms:W3CDTF">2014-05-12T22:32:04Z</dcterms:modified>
  <cp:revision>68</cp:revision>
  <dc:subject/>
  <dc:title>CRS Chapter 4</dc:title>
</cp:coreProperties>
</file>